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607-B02C-43D4-89AD-93ABD9B8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D5F-4C04-4B91-A49F-45AE71FE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085-A372-475D-BA55-298D5CE8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BEE-4EED-4333-BE04-E9D45EF5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997B-0862-4A50-8A45-DB796633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7BA8-34F0-4E94-B728-4055A626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D598-48B9-4A16-8A46-74465E26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6588-5184-4945-8CE4-7D6B596A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02B6-3266-45B8-8C47-68AD91CD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0502-300B-4FAA-9F9E-94BB128B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A0AD-CF5A-42E4-BE71-8C83ADB9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E70-9460-4546-8CD1-145B6C9D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5DC-83A7-4608-A478-C8EC1D3C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4EDB-50DF-43F8-ACA3-008A1A21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C005-4E25-4F4D-B780-28B07690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365C-1B00-41C3-8EE3-473B50F9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565A-B9E7-4A2F-95B6-AA711B22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DF2-1A9A-4CF5-880F-BB725B9E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959-99C9-44DA-B0D7-DAA6E9B5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19E-12A4-4206-86D2-5C248729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6F8-2C3A-4CE8-A8DF-E63C92A7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365-D85F-4A8A-96C1-681337A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A48-0433-4152-9BAB-2D3BBA3E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C2B-732A-4EB2-8660-DB148AE6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D6E9-4476-41CC-A71D-E1310520A0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CAEE-0B80-4FD1-A4E5-6920A34D75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PTÁCI</a:t>
            </a:r>
            <a:br>
              <a:rPr sz="5800"/>
            </a:b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-základní znaky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</a:t>
            </a: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Rozdělení pták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av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Šplhav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ukač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louhokřídl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ěkkozob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ěv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rabav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rubozob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Základní znak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sou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teplokrevní obratlov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zmnožují se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vej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ělo mají pokryto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eří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oro všichni ptáci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létaj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rotáhlé tě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dní končetiny se proměnily v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kříd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ětšinu kostí m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dutýc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vyplněných vzdu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| 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okryv tě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ří chrání ptáky před ztrátou tep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ří na křídlech je nástrojem pohyb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ří je a) obrysov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) prachov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)Pera na křídlech se nazýv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letk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a na ocasu se nazýv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rejdovac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) Peří prachové chrání ptáky před ztrát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pla, pravidelně se vyměňuje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elichán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Kostr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táci mají pevnou lehkou kost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bka je připojena k páteři 1 kloub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rční páteř je tvořena pohyblivě spojenými obratli – umožňuje pohyby hlavy při získávání potra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 hrudní kost se upínají létací sva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dní končetiny se přeměnily v kříd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ávicí sousta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elisti jsou přeměněny v </a:t>
            </a:r>
            <a:r>
              <a:rPr b="1" lang="cs-CZ" sz="2800" spc="-1" strike="noStrike">
                <a:solidFill>
                  <a:srgbClr val="666600"/>
                </a:solidFill>
                <a:latin typeface="Verdana"/>
              </a:rPr>
              <a:t>zobá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ícen se u některých ptáků rozšiřuje ve </a:t>
            </a:r>
            <a:r>
              <a:rPr b="1" lang="cs-CZ" sz="2800" spc="-1" strike="noStrike">
                <a:solidFill>
                  <a:srgbClr val="666600"/>
                </a:solidFill>
                <a:latin typeface="Verdana"/>
              </a:rPr>
              <a:t>vo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ícen vede do </a:t>
            </a:r>
            <a:r>
              <a:rPr b="1" lang="cs-CZ" sz="2800" spc="-1" strike="noStrike">
                <a:solidFill>
                  <a:srgbClr val="666600"/>
                </a:solidFill>
                <a:latin typeface="Verdana"/>
              </a:rPr>
              <a:t>žlaznatého a svalnatého žalud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</a:t>
            </a: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Dýchací sousta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zduch je přiváděný do plic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nozdrami a průdušni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2 průduš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hlasové ústroj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lí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vzdušné vak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zásobárna vzduchu,nadlehčují tělo, pomáhají udržovat tělesnou teplo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Cévní sousta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rdce má 2 předsíně a 2 ko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ý krevní oběh (plicní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ký krevní oběh (tělní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ozmnožován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lození je vnitř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čí pohlavní žlázy –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2 varl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ičí pohlavní žlázy –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1 vaječní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ývoj vajíčka po oplození – žloutková koule se postupně obaluje bílkem, jemnými papírovými blanami a skořápk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 vajíčkách sedí samice nebo sam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ylíhlá mláďata jsou většinou holá – rodiče je krmí –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mláďata krmi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ěkterá již mají peří a potravu si hledají sami –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mláďata nekrmi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393372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</a:t>
            </a: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Ptáci stálí a stěhovav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táci stál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zůstávají u nás po celý r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ptáci stěhovav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přilétají k nám na jaře,pak u nás hnízdí a na podzim odlétají do teplých jižních obla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ěkteří ptáci mají </a:t>
            </a:r>
            <a:r>
              <a:rPr b="1" lang="en-US" sz="2800" spc="-1" strike="noStrike">
                <a:solidFill>
                  <a:srgbClr val="666600"/>
                </a:solidFill>
                <a:latin typeface="Verdana"/>
              </a:rPr>
              <a:t>hospodářský význ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5:28:59Z</dcterms:created>
  <dc:creator>pc</dc:creator>
  <dc:description/>
  <dc:language>en-US</dc:language>
  <cp:lastModifiedBy>pc</cp:lastModifiedBy>
  <dcterms:modified xsi:type="dcterms:W3CDTF">2012-10-14T15:56:19Z</dcterms:modified>
  <cp:revision>3</cp:revision>
  <dc:subject/>
  <dc:title>PTÁCI -základní znaky</dc:title>
</cp:coreProperties>
</file>