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4D4-E6B1-478C-A1E8-FC145353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7E2-3357-43AE-B54A-5F038AF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FF5-2051-4721-BF7F-5ECED890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3DF-D55E-4A77-94E1-8CA60242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C7B-8898-4DA8-9EB2-99DA249A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B347-4F96-4298-A8E8-8736061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5328-B4AF-4F66-B68F-6B65C9E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7C2-0A3F-4DAA-B9BF-EB061BB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F99-F7C5-4506-B527-D8EFA3C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9E56-DAD8-4CE2-87B0-EDFFA4AD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CB2B-D782-49B1-BF49-1BFBEE4F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653-A136-4A78-8B43-DAA8B9D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E72-5D4B-405E-991A-D896F6B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B968-454E-4E4B-A3BE-3EF2146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AB5-1EF1-409C-8D1F-AB33A808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3CA0-5EBB-4681-9C59-A2E7AFB7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422-2456-4506-94CB-00399DDF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8C6-A9C0-4E76-BEF3-222DA2FA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7BC-BFEF-491E-9052-5EE5E38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B10-BC47-485A-A179-9C9E4DF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914-7BF8-434B-897A-A7A82C4E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539-4249-49A8-BDC7-D218512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090-E8E1-40A2-AFCF-12C4BEF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FD3-759A-4AA5-98F4-FB651ED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15E-25F1-4E6D-863E-DA02A3B9731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C75-4F4C-462A-990D-2A9701FFA6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                      </a:t>
            </a:r>
            <a:r>
              <a:rPr b="0" lang="cs-CZ" sz="4400" spc="-1" strike="noStrike">
                <a:solidFill>
                  <a:srgbClr val="f7d47d"/>
                </a:solidFill>
                <a:latin typeface="Arial"/>
              </a:rPr>
              <a:t>Ptáci</a:t>
            </a:r>
            <a:br>
              <a:rPr sz="4400"/>
            </a:br>
            <a:r>
              <a:rPr b="0" lang="cs-CZ" sz="4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skupiny dravci, sovy, šplhavci,</a:t>
            </a:r>
            <a:br>
              <a:rPr sz="3600"/>
            </a:b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        kukačky, dlouhokřídlí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f1311"/>
                </a:solidFill>
                <a:latin typeface="Arial"/>
              </a:rPr>
              <a:t>Přírodopis 8.roč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rav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krmiví ptá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tvrdý zobák s ostrými hranami, je hákovitě zahnut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řídla mají dobře vyvinut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tky jsou dlouh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ostré dráp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výborný zra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užiteční a zákonem chráně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áně les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dosahuje délky 500-560 m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rozpětí křídel je 1100-1150 m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raboše a myš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za letu ho poznáme podle širokých křídel, často plachtí a krouží vysoko na obloz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Jestřáb les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 menší než káně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lavně drobné ptáky, vrány a stra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hnízda si staví na vysokých strome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oštolka obecn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patří mezi menší drav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raboše, hmyz a myš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patří mezi stěhované ptá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Sov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to noční drav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vynikající sluch a zra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étají velmi tiš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měkké, husté a načechrané peř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oví drobné hlodav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 našim nejznámějším sovám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ova pálená, sýček obecný a výr velk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Šplhav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ývají také označováni jako „lékaři lesů“, protože prohledávají kůru stromů a vybírají z ní hmy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upravené prsty ke šplhá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nízdí často v dutinách stromů, které si vydlabávají ostrým zobák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zi šplhavce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žluna zelená, strakapoud velký a datel čern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Kukačk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krmiví ptá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obák mají na konci zahnut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zi nejznámější zástupce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ukačka obecn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lade vajíčka do hnízd jiných ptákům,kteří se o mládě kukačky staraj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tří mezi stěhovavé ptá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1" lang="cs-CZ" sz="4000" spc="-1" strike="noStrike">
                <a:solidFill>
                  <a:srgbClr val="f7d47d"/>
                </a:solidFill>
                <a:latin typeface="Arial"/>
              </a:rPr>
              <a:t>Dlouhokřídlí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Jsou vodní krmiví ptá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Přední prsty mají spojené plovací bláno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Mají dlouhá a úzká kříd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Nejznámějším naším zástupcem je </a:t>
            </a:r>
            <a:r>
              <a:rPr b="1" lang="cs-CZ" sz="2800" spc="-1" strike="noStrike">
                <a:solidFill>
                  <a:srgbClr val="2f1311"/>
                </a:solidFill>
                <a:latin typeface="Arial"/>
              </a:rPr>
              <a:t>racek chechtav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Patří mezi stěhovavé pták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Je užitečný – hubí červy, ponravy, hmy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4:29:19Z</dcterms:created>
  <dc:creator>pc</dc:creator>
  <dc:description/>
  <dc:language>en-US</dc:language>
  <cp:lastModifiedBy>pc</cp:lastModifiedBy>
  <dcterms:modified xsi:type="dcterms:W3CDTF">2012-10-29T14:47:38Z</dcterms:modified>
  <cp:revision>2</cp:revision>
  <dc:subject/>
  <dc:title>                      Ptáci   skupiny dravci, sovy, šplhavci,         kukačky, dlouhokřídlí</dc:title>
</cp:coreProperties>
</file>