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amera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6A86-61B0-43D7-9B71-20104A52F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02FF-7E32-4BFB-983F-CCC300C1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C6EE-1864-401A-A265-E1C1A410C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1A23-2FD6-43A7-AF50-1DCFE5158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462B-C787-4225-9767-C0D32709C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E81E-D367-47A2-BD66-8B735CCF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79468-6596-460F-A91A-98D9D47E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47C8-6169-4336-AC27-69DD18B5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5B4B5-197F-4EE8-946F-5C32CE1B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25C9-F2F2-45DF-9F2F-BFDA973B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584E-8F34-4A0E-88FB-268740D2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53F4-165F-41AE-8BF5-C31D1776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3000-A92A-480A-A302-35EA2C3E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B0BCA-F1E4-428B-93DC-210E8954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FE70-A316-40C0-B398-AABF062C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2A28-8A96-467E-B566-FB848F192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77E3-3451-4A56-8B93-E8773BFB1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681F-D279-4E8D-8065-EC22CD57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FC4A-6875-448F-BD7F-9C8A6A2C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BEFE-FEE1-42BD-840F-2A6B6408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4055-C36C-4DA3-829F-60519C0C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285F-2DDF-424A-B789-A17EDF32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F2BE-C9EA-47B4-8738-E17D278D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C58B-1769-4D41-8BFD-A1039B62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FE35-8705-496B-9683-5D1694F203C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31C4-5772-4476-BF95-96DAB0C0798E}" type="slidenum">
              <a:rPr b="0" lang="cs-CZ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3/34/Albert_Einstein_in_later_years.jpg" TargetMode="External"/><Relationship Id="rId2" Type="http://schemas.openxmlformats.org/officeDocument/2006/relationships/image" Target="../media/image1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Albert_Einstein_in_later_years.jpg" TargetMode="External"/><Relationship Id="rId2" Type="http://schemas.openxmlformats.org/officeDocument/2006/relationships/hyperlink" Target="http://commons.wikimedia.org/wiki/File:Homo_erectus.JPG" TargetMode="External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2/23/Homo_erectus.JPG" TargetMode="External"/><Relationship Id="rId2" Type="http://schemas.openxmlformats.org/officeDocument/2006/relationships/image" Target="../media/image2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c/c7/Krapina-Neanderthal-3.JPG" TargetMode="External"/><Relationship Id="rId2" Type="http://schemas.openxmlformats.org/officeDocument/2006/relationships/image" Target="../media/image3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0/05/Cro-magnon_-_diorama_du_Mus&#233;e_de_Pr&#233;histoire_des_gorges_du_Verdon.jpg" TargetMode="External"/><Relationship Id="rId2" Type="http://schemas.openxmlformats.org/officeDocument/2006/relationships/image" Target="../media/image4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6/6c/Australia_Aboriginal_Culture_009.jpg" TargetMode="External"/><Relationship Id="rId2" Type="http://schemas.openxmlformats.org/officeDocument/2006/relationships/image" Target="../media/image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700" spc="-1" strike="noStrike">
                <a:solidFill>
                  <a:srgbClr val="ffffcc"/>
                </a:solidFill>
                <a:latin typeface="Arial"/>
              </a:rPr>
              <a:t>Původ a vývoj člověka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eaeaea"/>
                </a:solidFill>
                <a:latin typeface="Verdana"/>
              </a:rPr>
              <a:t>Přírodopis 9.roč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Picture 7" descr="File:Albert Einstein in later year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59640" y="3500280"/>
            <a:ext cx="1931760" cy="2421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  <p:sndAc>
      <p:stSnd>
        <p:snd r:embed="rId3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Arial"/>
              </a:rPr>
              <a:t>Zdroje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aeaea"/>
                </a:solidFill>
                <a:latin typeface="Verdana"/>
              </a:rPr>
              <a:t>obr.č.1</a:t>
            </a:r>
            <a:r>
              <a:rPr b="0" lang="pl-PL" sz="1600" spc="-1" strike="noStrike">
                <a:solidFill>
                  <a:srgbClr val="eaeaea"/>
                </a:solidFill>
                <a:latin typeface="Verdana"/>
              </a:rPr>
              <a:t>[cit. 2012-09-23]. Dostupné pod licencí Public domain na WWW: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commons.wikimedia.org/wiki/File:Albert_Einstein_in_later_years.jpg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aeaea"/>
                </a:solidFill>
                <a:latin typeface="Verdana"/>
              </a:rPr>
              <a:t>obr. č.2 </a:t>
            </a:r>
            <a:r>
              <a:rPr b="0" lang="pl-PL" sz="1600" spc="-1" strike="noStrike">
                <a:solidFill>
                  <a:srgbClr val="eaeaea"/>
                </a:solidFill>
                <a:latin typeface="Verdana"/>
              </a:rPr>
              <a:t>[cit. 2012-09-23]. Dostupné pod licencí </a:t>
            </a:r>
            <a:r>
              <a:rPr b="0" lang="cs-CZ" sz="1600" spc="-1" strike="noStrike">
                <a:solidFill>
                  <a:srgbClr val="eaeaea"/>
                </a:solidFill>
                <a:latin typeface="Verdana"/>
              </a:rPr>
              <a:t>Creative Commons na WWW: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http://commons.wikimedia.org/wiki/File:Homo_erectus.JPG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aeaea"/>
                </a:solidFill>
                <a:latin typeface="Verdana"/>
              </a:rPr>
              <a:t>obr.č.3 </a:t>
            </a:r>
            <a:r>
              <a:rPr b="0" lang="pl-PL" sz="1600" spc="-1" strike="noStrike">
                <a:solidFill>
                  <a:srgbClr val="eaeaea"/>
                </a:solidFill>
                <a:latin typeface="Verdana"/>
              </a:rPr>
              <a:t>[cit. 2012-09-23]. Dostupné pod licencí Public domain na WWW: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aeaea"/>
                </a:solidFill>
                <a:latin typeface="Verdana"/>
              </a:rPr>
              <a:t>http://commons.wikimedia.org/wiki/File:Krapina-Neanderthal-3.JPG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aeaea"/>
                </a:solidFill>
                <a:latin typeface="Verdana"/>
              </a:rPr>
              <a:t>obr. č.4 </a:t>
            </a:r>
            <a:r>
              <a:rPr b="0" lang="pl-PL" sz="1600" spc="-1" strike="noStrike">
                <a:solidFill>
                  <a:srgbClr val="eaeaea"/>
                </a:solidFill>
                <a:latin typeface="Verdana"/>
              </a:rPr>
              <a:t>[cit. 2012-09-23]. Dostupné pod licencí </a:t>
            </a:r>
            <a:r>
              <a:rPr b="0" lang="cs-CZ" sz="1600" spc="-1" strike="noStrike">
                <a:solidFill>
                  <a:srgbClr val="eaeaea"/>
                </a:solidFill>
                <a:latin typeface="Verdana"/>
              </a:rPr>
              <a:t>Creative Commons na WWW: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aeaea"/>
                </a:solidFill>
                <a:latin typeface="Verdana"/>
              </a:rPr>
              <a:t>http://commons.wikimedia.org/wiki/File:Cro-magnon_-_diorama_du_Mus%C3%A9e_de_Pr%C3%A9histoire_des_gorges_du_Verdon.jpg?uselang=cs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aeaea"/>
                </a:solidFill>
                <a:latin typeface="Verdana"/>
              </a:rPr>
              <a:t>obr. č.5 </a:t>
            </a:r>
            <a:r>
              <a:rPr b="0" lang="pl-PL" sz="1600" spc="-1" strike="noStrike">
                <a:solidFill>
                  <a:srgbClr val="eaeaea"/>
                </a:solidFill>
                <a:latin typeface="Verdana"/>
              </a:rPr>
              <a:t>[cit. 2012-09-23]. Dostupné pod licencí </a:t>
            </a:r>
            <a:r>
              <a:rPr b="0" lang="cs-CZ" sz="1600" spc="-1" strike="noStrike">
                <a:solidFill>
                  <a:srgbClr val="eaeaea"/>
                </a:solidFill>
                <a:latin typeface="Verdana"/>
              </a:rPr>
              <a:t>Creative Commons na WWW: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aeaea"/>
                </a:solidFill>
                <a:latin typeface="Verdana"/>
              </a:rPr>
              <a:t>http://commons.wikimedia.org/wiki/File:Australia_Aboriginal_Culture_009.jpg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  <p:sndAc>
      <p:stSnd>
        <p:snd r:embed="rId3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Arial"/>
              </a:rPr>
              <a:t>Živočišní předchůdci člověk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žili přibližně před 5 miliony le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žili v tropických pralesíc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živili se dužnatými plod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pohybovali se po 4 končetinác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Arial"/>
              </a:rPr>
              <a:t>Co je antropologie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Antropologie je věda o původu a vývoji člověk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Arial"/>
              </a:rPr>
              <a:t>Opočlověk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eaeaea"/>
                </a:solidFill>
                <a:latin typeface="Verdana"/>
              </a:rPr>
              <a:t>žil před 500 000 až 300 000 lety</a:t>
            </a:r>
            <a:endParaRPr b="0" lang="en-US" sz="31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eaeaea"/>
                </a:solidFill>
                <a:latin typeface="Verdana"/>
              </a:rPr>
              <a:t>měl vzpřímenou postavu</a:t>
            </a:r>
            <a:endParaRPr b="0" lang="en-US" sz="31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eaeaea"/>
                </a:solidFill>
                <a:latin typeface="Verdana"/>
              </a:rPr>
              <a:t>žil v lesích a ve stepích</a:t>
            </a:r>
            <a:endParaRPr b="0" lang="en-US" sz="31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eaeaea"/>
                </a:solidFill>
                <a:latin typeface="Verdana"/>
              </a:rPr>
              <a:t>ukrýval se v jeskyních a pod skalními převisy</a:t>
            </a:r>
            <a:endParaRPr b="0" lang="en-US" sz="31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eaeaea"/>
                </a:solidFill>
                <a:latin typeface="Verdana"/>
              </a:rPr>
              <a:t>používal primitivní nástroje-kameny a větve stromů</a:t>
            </a:r>
            <a:endParaRPr b="0" lang="en-US" sz="31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eaeaea"/>
                </a:solidFill>
                <a:latin typeface="Verdana"/>
              </a:rPr>
              <a:t>dorozumíval se neartikulovanou řečí-skřeky</a:t>
            </a:r>
            <a:endParaRPr b="0" lang="en-US" sz="31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Picture 5" descr="File:Homo erectu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96360" y="1197000"/>
            <a:ext cx="1333440" cy="17780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  <p:sndAc>
      <p:stSnd>
        <p:snd r:embed="rId3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Arial"/>
              </a:rPr>
              <a:t>Pračlověk-člověk neandrtálský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pračlověk je označován jako neandrtálec podle místa nálezu – v Německu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měřil asi 1,5 metru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měl mohutné čelisti,počet zubů byl stejný jako u dnešních lidí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k lovu a práci používal nástroje z kamene a dřevěné oštěp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žil v tlupách,dorozumíval se primitivní řečí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Arial"/>
              </a:rPr>
              <a:t>Pračlověk-člověk neandrtálský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své mrtvé pohřbív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český antropolog Aleš Hrdlička dokázal, že všechno lidstvo prošlo vývojem člověka neandrtálskéh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Picture 4" descr="File:Krapina-Neanderthal-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3860640"/>
            <a:ext cx="3673440" cy="2756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  <p:sndAc>
      <p:stSnd>
        <p:snd r:embed="rId3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Arial"/>
              </a:rPr>
              <a:t>Člověk předvěký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nazýval se také člověk kromaňonský podle místa nálezu ve Francii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byl vyšší postav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vyráběl dokonalé kamenné nástroj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dokázal vyrobit nástroje a ozdobné předměty z kostí, parohů a zubů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na stěnách v jeskyních maloval obrazy a rytiny zvíř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Arial"/>
              </a:rPr>
              <a:t>Člověk předvěký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2" name="Picture 4" descr="File:Cro-magnon - diorama du Musée de Préhistoire des gorges du Verd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71640" y="1341360"/>
            <a:ext cx="3727440" cy="4967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  <p:sndAc>
      <p:stSnd>
        <p:snd r:embed="rId3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Arial"/>
              </a:rPr>
              <a:t>Člověk rozumný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vznikl asi před 15 000 let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dochází u něj k rozvoji myšlení, řeči, duševních a tělesných schopností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staví si stálá obydlí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zdomácňuje si zvířata, vzniká pastevectví a zemědělství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začal využívat kov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5" name="Picture 5" descr="File:Australia Aboriginal Culture 00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10360" y="3716280"/>
            <a:ext cx="1938240" cy="2906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  <p:sndAc>
      <p:stSnd>
        <p:snd r:embed="rId3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5:44:12Z</dcterms:created>
  <dc:creator>pc</dc:creator>
  <dc:description/>
  <dc:language>en-US</dc:language>
  <cp:lastModifiedBy>user</cp:lastModifiedBy>
  <dcterms:modified xsi:type="dcterms:W3CDTF">2012-10-16T01:16:00Z</dcterms:modified>
  <cp:revision>3</cp:revision>
  <dc:subject/>
  <dc:title>Původ a vývoj člověka</dc:title>
</cp:coreProperties>
</file>